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041BC-B6B9-4E47-9186-B9D72B6E46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3B77C-064A-401D-8791-2F690A1F4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D385F-F7A4-4F0C-AD73-0FE56B985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3A5C6-C16C-48F6-B38E-9024517CB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047AA-47BF-4E5B-B499-E03D58C02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B9076-BC0B-410A-AEF0-339982FAA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FD8C6-F353-4448-9A45-2F2F4AE2A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0BDD2-3782-44CF-AC83-5DDF587A1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1A83B-6369-41B4-A548-C008D7454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9515F-74E4-426C-AA68-E977DBAE6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A2B44-4AD6-44EA-8FC7-29BF432B4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2FC50-6E92-430B-87F2-E5CF2E175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DD21D-CFA2-4B69-AD23-8EC6EAFBF6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8360" y="549360"/>
            <a:ext cx="799128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an you find all the words you know</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olou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ay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umbers</a:t>
            </a:r>
            <a:endParaRPr b="0" lang="en-US" sz="1800" spc="-1" strike="noStrike">
              <a:solidFill>
                <a:srgbClr val="000000"/>
              </a:solidFill>
              <a:latin typeface="Arial"/>
            </a:endParaRPr>
          </a:p>
        </p:txBody>
      </p:sp>
      <p:sp>
        <p:nvSpPr>
          <p:cNvPr id="42" name=""/>
          <p:cNvSpPr/>
          <p:nvPr/>
        </p:nvSpPr>
        <p:spPr>
          <a:xfrm>
            <a:off x="539640" y="2708280"/>
            <a:ext cx="7991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Identify all the words/ phrases that keep repeating themselv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68360" y="423000"/>
            <a:ext cx="8424720" cy="5458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l claro de luna reposa un huevo sobre una hoja.  Un domingo de mañana, del huevo salió una oruga pequeña y muy hambrienta.  Enseguida empezó a buscar comida.  El lunes comió una manzana, pero aún seguía hambrienta.  El martes comió dos peras, pero aún seguía hambrienta.  El miércoles comió tres ciruelas, pero aún seguía hambrienta.  El jueves comió cuatro fresas, pero aún seguía hambrienta.  El viernes comió cinco naranjas, pero aún seguía hambrienta.  El sábado comió un bizcocho de chocolate, un helado, un pepinillo, un trozo de queso suizo, una rodaja de salame………Una paleta, un pastel de cerezas, una salchicha, un pastelito y una tajada de sandía.  ¡Esa noche, tuvo un tremendo dolor de estómago!  El día siguiente era domingo otra vez. La oruga comió una hermosa hoja bien verde, y se sintió mucho mejor.  Ya no tenía hambre, ni era una oruga pequeña.  ¡Ahora era una oruga grande y gorda!  Construyó un capullo y se encerró en ella por más de dos semanas.  Un día hizo un agujero en el capullo, empujó un poco para salir y ……  ¡…se encontró convertida en una mariposa bellísi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24000" y="333000"/>
            <a:ext cx="8424720" cy="152496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l claro de luna reposa un huevo sobre una hoja.  Un domingo de mañana, del huevo salió una oruga pequeña y muy hambrienta.  Enseguida empezó a buscar comida.  El lunes comió una manzana, pero aún seguía hambrienta.  El martes comió dos peras, pero aún seguía hambrienta.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45" name=""/>
          <p:cNvSpPr/>
          <p:nvPr/>
        </p:nvSpPr>
        <p:spPr>
          <a:xfrm>
            <a:off x="395280" y="2060280"/>
            <a:ext cx="8424720" cy="1829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t>
            </a:r>
            <a:r>
              <a:rPr b="0" lang="en-GB" sz="2000" spc="-1" strike="noStrike">
                <a:solidFill>
                  <a:srgbClr val="000000"/>
                </a:solidFill>
                <a:latin typeface="Comic Sans MS"/>
              </a:rPr>
              <a:t>..  El miércoles comió tres ciruelas, pero aún seguía hambrienta.  El jueves comió cuatro fresas, pero aún seguía hambrienta.  El viernes comió cinco naranjas, pero aún seguía hambrienta.  El sábado comió un bizcocho de chocolate, un helado, un pepinillo, un trozo de queso suizo, una rodaja de salame………Una paleta, un pastel de cerezas, una salchicha, un pastelito y una tajada de sandía.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46" name=""/>
          <p:cNvSpPr/>
          <p:nvPr/>
        </p:nvSpPr>
        <p:spPr>
          <a:xfrm>
            <a:off x="395280" y="4076280"/>
            <a:ext cx="8424720" cy="12200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t>
            </a:r>
            <a:r>
              <a:rPr b="0" lang="en-GB" sz="2000" spc="-1" strike="noStrike">
                <a:solidFill>
                  <a:srgbClr val="000000"/>
                </a:solidFill>
                <a:latin typeface="Comic Sans MS"/>
              </a:rPr>
              <a:t>¡Esa noche, tuvo un tremendo dolor de estómago!  El día siguiente era domingo otra vez. La oruga comió una hermosa hoja bien verde, y se sintió mucho mejor.  Ya no tenía hambre, ni era una oruga pequeña.  ¡Ahora era una oruga grande y gorda! …… </a:t>
            </a:r>
            <a:endParaRPr b="0" lang="en-US" sz="2000" spc="-1" strike="noStrike">
              <a:solidFill>
                <a:srgbClr val="000000"/>
              </a:solidFill>
              <a:latin typeface="Arial"/>
            </a:endParaRPr>
          </a:p>
        </p:txBody>
      </p:sp>
      <p:sp>
        <p:nvSpPr>
          <p:cNvPr id="47" name=""/>
          <p:cNvSpPr/>
          <p:nvPr/>
        </p:nvSpPr>
        <p:spPr>
          <a:xfrm>
            <a:off x="395280" y="5668920"/>
            <a:ext cx="8424720" cy="11894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t>
            </a:r>
            <a:r>
              <a:rPr b="0" lang="en-GB" sz="2000" spc="-1" strike="noStrike">
                <a:solidFill>
                  <a:srgbClr val="000000"/>
                </a:solidFill>
                <a:latin typeface="Comic Sans MS"/>
              </a:rPr>
              <a:t>.Construyó un capullo y se encerró en ella por más de dos semanas.  Un día hizo un agujero en el capullo, empujó un poco para salir y ……  ¡…se encontró convertida en una mariposa bellísi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2541240"/>
            <a:ext cx="8424720" cy="12200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t>
            </a:r>
            <a:r>
              <a:rPr b="0" lang="en-GB" sz="2000" spc="-1" strike="noStrike">
                <a:solidFill>
                  <a:srgbClr val="000000"/>
                </a:solidFill>
                <a:latin typeface="Comic Sans MS"/>
              </a:rPr>
              <a:t>¡Esa noche, tuvo un tremendo dolor de estómago!  El día siguiente era domingo otra vez. La oruga comió una hermosa hoja bien verde, y se sintió mucho mejor.  Ya no tenía hambre, ni era una oruga pequeña.  ¡Ahora era una oruga grande y gorda!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68360" y="2557440"/>
            <a:ext cx="8424720" cy="11894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t>
            </a:r>
            <a:r>
              <a:rPr b="0" lang="en-GB" sz="2000" spc="-1" strike="noStrike">
                <a:solidFill>
                  <a:srgbClr val="000000"/>
                </a:solidFill>
                <a:latin typeface="Comic Sans MS"/>
              </a:rPr>
              <a:t>.Construyó un capullo y se encerró en ella por más de dos semanas.  Un día hizo un agujero en el capullo, empujó un poco para salir y ……  ¡…se encontró convertida en una mariposa bellísi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68360" y="423000"/>
            <a:ext cx="8424720" cy="5458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l claro de luna reposa un huevo sobre una hoja.  Un domingo de mañana, del huevo salió una oruga pequeña y muy hambrienta.  Enseguida empezó a buscar comida.  El lunes comió una manzana, pero aún seguía hambrienta.  El martes comió dos peras, pero aún seguía hambrienta.  El miércoles comió tres ciruelas, pero aún seguía hambrienta.  El jueves comió cuatro fresas, pero aún seguía hambrienta.  El viernes comió cinco naranjas, pero aún seguía hambrienta.  El sábado comió un bizcocho de chocolate, un helado, un pepinillo, un trozo de queso suizo, una rodaja de salame………Una paleta, un pastel de cerezas, una salchicha, un pastelito y una tajada de sandía.  ¡Esa noche, tuvo un tremendo dolor de estómago!  El día siguiente era domingo otra vez. La oruga comió una hermosa hoja bien verde, y se sintió mucho mejor.  Ya no tenía hambre, ni era una oruga pequeña.  ¡Ahora era una oruga grande y gorda!  Construyó un capullo y se encerró en ella por más de dos semanas.  Un día hizo un agujero en el capullo, empujó un poco para salir y ……  ¡…se encontró convertida en una mariposa bellísim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3T15:16:58Z</dcterms:created>
  <dc:creator>Helen</dc:creator>
  <dc:description/>
  <dc:language>en-US</dc:language>
  <cp:lastModifiedBy>Helen</cp:lastModifiedBy>
  <dcterms:modified xsi:type="dcterms:W3CDTF">2010-11-08T19:26:45Z</dcterms:modified>
  <cp:revision>3</cp:revision>
  <dc:subject/>
  <dc:title>Slide 1</dc:title>
</cp:coreProperties>
</file>